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25A-7809-4283-83C9-D2D6E48A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E99-91CA-41D6-8E9C-7C2412EB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234-991F-477F-B938-946B8A50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1FC-472D-4728-9109-EC946D97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D99-AAE7-4547-9FAD-AAD1CCF4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E49-42E0-4D0B-8E2D-0FCD5B2A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B57-BBE4-491D-902C-E54A07DF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EF9-7D59-4222-92F4-F97A641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49C-0693-4119-8792-41DF6A01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CE3-3275-4C72-8739-007A333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DA0-56AD-43B9-B2D1-ADEDA35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326-218A-4D03-88DB-4842114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B532-633C-4C8F-AF42-A8CE3B365C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7 Všade tam, kde smútok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voj blížny poč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už príde Kristus,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sme všetci hotov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mu slávu piesňou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spasiť všetkých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ade tam, kde smútok vlád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lásku rozdá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cť strápeným a bied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žiadnej chvíli nevá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žno pár slov láska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tačí a blížny t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e Božiu spásnu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uši stíchne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spasiť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ležitosť nepremeš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všade v pravý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slú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vždy bez prest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kol šír len radosť,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e je plno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estí a trápenia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lesajúcich pozdvih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a cestu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spasiť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vny, čo tvoj Pán ti zver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odenne rozmnož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krátko už sa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zvesť oznam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40:54Z</dcterms:modified>
  <cp:revision>21</cp:revision>
  <dc:subject/>
  <dc:title>Je veľký náš Pán, on slávy je Kráľ Nech do všetkých strán  spev vrúcnych znie chvál.</dc:title>
</cp:coreProperties>
</file>